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0FA6-8F5B-4A8F-BCF1-EA4CC62E4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7D30-DD87-488F-ADF2-DE1033DBA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ciencedaily.com/releases/2009/10/09101413070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FDEC-6468-47FA-A255-AF62BD0AE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1.nicerweb.com/Locked/media/ch20/electrophoresi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D5F9-5DA1-4FA6-9A7C-25DF46558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A415-4F09-45DB-8363-C08AC4B3A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AMY1 gene sequence: http://en.wikipedia.org/wiki/File:AMY1gene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ylase gene…one of the most variable in hu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CDB3-E103-41CD-B218-0375A5826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3D36-4DD3-4C59-A872-17AF38A3C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okkka.hu/drupal/en/node/8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8CE8-5EC7-4531-9697-5A69C8149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nwfsc.noaa.gov/publications/techmemos/tm17/figures/moranfig4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0523-C137-43D0-A05D-CC23FBA0C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www.sciencedirect.com/science/article/pii/S00426989120030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AEE8-538E-45B5-9405-707E4736F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A104-E4C9-47A1-9613-C717FFCCB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ciencedirect.com/science/article/pii/S01681656030022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64EA-8AA7-49D7-BABF-66C89807D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AC3A-1FCF-43DF-8432-C8F49C8F6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logs.discovermagazine.com/80beats/2009/04/20/dna-sampling-of-innocent-until-proven-guilty-people-is-on-the-rise/#.UL3UexzMJ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30D8-FBC3-481A-8A89-B12D07B7F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FED9-752A-46FB-ADB9-37E32EE49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&amp; data (8 days &amp; $10 000) from: http://www.economist.com/node/183042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1439-3A70-4485-8EE9-8E5406E53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uoguelph.ca/biophysics/central/facilities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d with permission from the Office of Science Education, the National Institutes of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chemat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ﾊ</a:t>
            </a:r>
            <a:r>
              <a:rPr b="1" lang="en-US" sz="1200" spc="-1" strike="noStrike">
                <a:solidFill>
                  <a:srgbClr val="46941b"/>
                </a:solidFill>
                <a:latin typeface="Arial"/>
              </a:rPr>
              <a:t>GREEN</a:t>
            </a:r>
            <a:r>
              <a:rPr b="0" lang="en-US" sz="1200" spc="-1" strike="noStrike">
                <a:solidFill>
                  <a:srgbClr val="46941b"/>
                </a:solidFill>
                <a:latin typeface="Arial"/>
              </a:rPr>
              <a:t> represents </a:t>
            </a:r>
            <a:r>
              <a:rPr b="1" lang="en-US" sz="1200" spc="-1" strike="noStrike">
                <a:solidFill>
                  <a:srgbClr val="46941b"/>
                </a:solidFill>
                <a:latin typeface="Arial"/>
              </a:rPr>
              <a:t>Control DNA</a:t>
            </a:r>
            <a:r>
              <a:rPr b="0" lang="en-US" sz="1200" spc="-1" strike="noStrike">
                <a:solidFill>
                  <a:srgbClr val="46941b"/>
                </a:solidFill>
                <a:latin typeface="Arial"/>
              </a:rPr>
              <a:t>, where either DNA or cDNA derived from normal tissue is hybridized to the target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941b"/>
                </a:solidFill>
                <a:latin typeface="Arial"/>
              </a:rPr>
              <a:t>ﾊ</a:t>
            </a:r>
            <a:r>
              <a:rPr b="1" lang="en-US" sz="1200" spc="-1" strike="noStrike">
                <a:solidFill>
                  <a:srgbClr val="da251a"/>
                </a:solidFill>
                <a:latin typeface="Arial"/>
              </a:rPr>
              <a:t>RED</a:t>
            </a:r>
            <a:r>
              <a:rPr b="0" lang="en-US" sz="1200" spc="-1" strike="noStrike">
                <a:solidFill>
                  <a:srgbClr val="da251a"/>
                </a:solidFill>
                <a:latin typeface="Arial"/>
              </a:rPr>
              <a:t> represents </a:t>
            </a:r>
            <a:r>
              <a:rPr b="1" lang="en-US" sz="1200" spc="-1" strike="noStrike">
                <a:solidFill>
                  <a:srgbClr val="da251a"/>
                </a:solidFill>
                <a:latin typeface="Arial"/>
              </a:rPr>
              <a:t>Sample DNA</a:t>
            </a:r>
            <a:r>
              <a:rPr b="0" lang="en-US" sz="1200" spc="-1" strike="noStrike">
                <a:solidFill>
                  <a:srgbClr val="da251a"/>
                </a:solidFill>
                <a:latin typeface="Arial"/>
              </a:rPr>
              <a:t>, where either DNA or cDNA is derived from diseased tissue hybridized to the target DNA.</a:t>
            </a:r>
            <a:r>
              <a:rPr b="0" lang="en-US" sz="1200" spc="-1" strike="noStrike">
                <a:solidFill>
                  <a:srgbClr val="da251a"/>
                </a:solidFill>
                <a:latin typeface="Arial"/>
              </a:rPr>
              <a:t>ﾊ</a:t>
            </a:r>
            <a:r>
              <a:rPr b="1" lang="en-US" sz="1200" spc="-1" strike="noStrike">
                <a:solidFill>
                  <a:srgbClr val="f4cc70"/>
                </a:solidFill>
                <a:latin typeface="Arial"/>
              </a:rPr>
              <a:t>YELLOW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 represents </a:t>
            </a:r>
            <a:r>
              <a:rPr b="1" lang="en-US" sz="1200" spc="-1" strike="noStrike">
                <a:solidFill>
                  <a:srgbClr val="f4cc70"/>
                </a:solidFill>
                <a:latin typeface="Arial"/>
              </a:rPr>
              <a:t>a combination of Control and Sample DNA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, where both hybridized equally to the target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ﾊ</a:t>
            </a:r>
            <a:r>
              <a:rPr b="1" lang="en-US" sz="1200" spc="-1" strike="noStrike">
                <a:solidFill>
                  <a:srgbClr val="f4cc70"/>
                </a:solidFill>
                <a:latin typeface="Arial"/>
              </a:rPr>
              <a:t>BLACK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 represents areas where </a:t>
            </a:r>
            <a:r>
              <a:rPr b="1" lang="en-US" sz="1200" spc="-1" strike="noStrike">
                <a:solidFill>
                  <a:srgbClr val="f4cc70"/>
                </a:solidFill>
                <a:latin typeface="Arial"/>
              </a:rPr>
              <a:t>neither the Control nor Sample DNA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 hybridized to the target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ﾊ</a:t>
            </a:r>
            <a:r>
              <a:rPr b="0" lang="en-US" sz="1200" spc="-1" strike="noStrike">
                <a:solidFill>
                  <a:srgbClr val="f4cc70"/>
                </a:solidFill>
                <a:latin typeface="Arial"/>
              </a:rPr>
              <a:t>Each spot on an array is associated with a particular gene. Each color in an array represents either healthy (control) or diseased (sample) tissue. Depending on the type of array used, the location and intensity of a color will tell us whether the gene, or mutation, is present in either the control and/or sample DNA. It will also provide an estimate of the expression level of the gene(s) in the sample and control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CC56-40B1-4BD3-BC50-B5EC67006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9A62-A9A8-4E11-B7A2-DB9484692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nadestiny.yolasite.com/resources/chip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D615-951D-44E2-AD4F-730CB1EF7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372A-4EF0-4A52-9F26-42A24E224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DNA_micro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66B7-40B3-4253-A337-9F64F44C4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D7AB-F5F5-4BFB-A7B1-94044623C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1C71-4142-4F8E-B88E-057E70F41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E1D9-EEA6-421B-9D78-EF5F702CD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479C-8AFE-4F86-9BE7-5042B1EC8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eb.ca/emailer/taq/taq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example of importance of biod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9EEA-333C-4B18-BEE2-82027098A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lmnh.ufl.edu/cowries/amplif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ADFF-D87F-4463-8F48-E51419BFE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A9FE-EB9F-4E40-B922-3128B9983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andypozo3a.edublogs.org/2011/12/05/gel-electrophoresis-virtual-lab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2C1B-07D4-4336-903F-FD606649A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6FD6-25A1-4077-ADE6-67461CEA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9A8-D737-4FF7-9150-16FDB209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E96-0CCA-4559-86C9-A0D84129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136-6F9C-42C7-87C6-0A5A97EF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FDA-6216-4E89-82C3-F4EC35EF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601-F1E9-46BB-897C-A439162D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F20-4659-4A85-A6CF-8511E299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4E4-BCFC-41D0-A921-7034E964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A19-D3C1-4DC0-A000-65A9F70A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913-6E0B-4F32-A10D-0352FD69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4E5-8483-48DE-A9A1-5D26692B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C73-27EA-497B-A38B-D8BD24C0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E530-89FF-4C08-81CF-62BD88F5F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nalc.org/resources/animations/pcr.html" TargetMode="External"/><Relationship Id="rId2" Type="http://schemas.openxmlformats.org/officeDocument/2006/relationships/hyperlink" Target="http://learn.genetics.utah.edu/content/labs/pcr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20_08GelElectrophoresis"/>
          <p:cNvPicPr/>
          <p:nvPr/>
        </p:nvPicPr>
        <p:blipFill>
          <a:blip r:embed="rId1"/>
          <a:stretch/>
        </p:blipFill>
        <p:spPr>
          <a:xfrm>
            <a:off x="2306520" y="1981080"/>
            <a:ext cx="4530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excellent interactive ani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learn.genetics.utah.edu/content/labs/ge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-by-step slideshow on gel electrophore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nalc.org/resources/animations/gelelectrophoresi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29" descr="800px-AMY1gene"/>
          <p:cNvPicPr/>
          <p:nvPr/>
        </p:nvPicPr>
        <p:blipFill>
          <a:blip r:embed="rId1"/>
          <a:stretch/>
        </p:blipFill>
        <p:spPr>
          <a:xfrm>
            <a:off x="685800" y="2562120"/>
            <a:ext cx="77724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n termination method (Sanger dideoxy method) developed in the 1970s by Frederick S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Genome Project used 2 methods of sequencing, both involving the Sang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oxy- vs. Dide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fig5_38"/>
          <p:cNvPicPr/>
          <p:nvPr/>
        </p:nvPicPr>
        <p:blipFill>
          <a:blip r:embed="rId1"/>
          <a:stretch/>
        </p:blipFill>
        <p:spPr>
          <a:xfrm>
            <a:off x="1701720" y="1981080"/>
            <a:ext cx="5738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moranfig4"/>
          <p:cNvPicPr/>
          <p:nvPr/>
        </p:nvPicPr>
        <p:blipFill>
          <a:blip r:embed="rId1"/>
          <a:stretch/>
        </p:blipFill>
        <p:spPr>
          <a:xfrm>
            <a:off x="2309760" y="609480"/>
            <a:ext cx="4524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1-s2"/>
          <p:cNvPicPr/>
          <p:nvPr/>
        </p:nvPicPr>
        <p:blipFill>
          <a:blip r:embed="rId1"/>
          <a:stretch/>
        </p:blipFill>
        <p:spPr>
          <a:xfrm>
            <a:off x="1641600" y="609480"/>
            <a:ext cx="5860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ger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raw-Hill animation &amp; qui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sites/0072556781/student_view0/chapter15/animation_quiz_1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le-Genome Shotg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1-s2"/>
          <p:cNvPicPr/>
          <p:nvPr/>
        </p:nvPicPr>
        <p:blipFill>
          <a:blip r:embed="rId1"/>
          <a:stretch/>
        </p:blipFill>
        <p:spPr>
          <a:xfrm>
            <a:off x="457200" y="2306520"/>
            <a:ext cx="82296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you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 sequenced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you do with the da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al ge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infor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29" descr="dna-test"/>
          <p:cNvPicPr/>
          <p:nvPr/>
        </p:nvPicPr>
        <p:blipFill>
          <a:blip r:embed="rId1"/>
          <a:stretch/>
        </p:blipFill>
        <p:spPr>
          <a:xfrm>
            <a:off x="1492200" y="1981080"/>
            <a:ext cx="61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ing finding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equence a gene and then use computer to find similar sequences in the same geno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other gen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discovered many genes of unknow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xpected degree of similarity between different organisms (e.g., yeast &amp; hum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$1000 Genome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ve to be able to sequence the genome faster and for less than $1000 (seems to have been cancelled, company Illumina may have “won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opore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20110312_tqp001"/>
          <p:cNvPicPr/>
          <p:nvPr/>
        </p:nvPicPr>
        <p:blipFill>
          <a:blip r:embed="rId1"/>
          <a:stretch/>
        </p:blipFill>
        <p:spPr>
          <a:xfrm>
            <a:off x="5334120" y="2209680"/>
            <a:ext cx="29048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Micro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microarray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Micro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scientists to pinpoint the functions of specific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ression of thousands of genes in a particular cell can be identified simultane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chip"/>
          <p:cNvPicPr/>
          <p:nvPr/>
        </p:nvPicPr>
        <p:blipFill>
          <a:blip r:embed="rId1"/>
          <a:stretch/>
        </p:blipFill>
        <p:spPr>
          <a:xfrm>
            <a:off x="2475000" y="609480"/>
            <a:ext cx="419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array or gene chip can hold from 10 to 2.1 million DNA samples (prob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e used to compare a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 with a cancerous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 mRNA from both cells; synthesize labelled cDNA; denature and place on micro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220px-Microarray-schema"/>
          <p:cNvPicPr/>
          <p:nvPr/>
        </p:nvPicPr>
        <p:blipFill>
          <a:blip r:embed="rId1"/>
          <a:stretch/>
        </p:blipFill>
        <p:spPr>
          <a:xfrm>
            <a:off x="2690640" y="609480"/>
            <a:ext cx="3760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Micro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ad the 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s gene is expressed in experimental (cancerous)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 gene is expressed in nor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s gene is expressed in both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ray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step-by-step animation with simplified explanation of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http://www.bio.davidson.edu/courses/genomics/chip/chipQ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9903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sequence or analyze DNA, more than just a small sample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mplify-Simple-Mega-with-Handle"/>
          <p:cNvPicPr/>
          <p:nvPr/>
        </p:nvPicPr>
        <p:blipFill>
          <a:blip r:embed="rId1"/>
          <a:stretch/>
        </p:blipFill>
        <p:spPr>
          <a:xfrm>
            <a:off x="4648320" y="2228760"/>
            <a:ext cx="388620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merase Chain Reaction (PC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rect method of making many copies of a DNA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ycle doubles the number of DNA molecules (exponential incre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forensics, medical diagnosis and genetic research because a small amount of DNA can be ampl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aq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olyme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mus aquatic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acterium that lives in hot sprin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enatured at the high temperatures needed in P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optimally at 72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aq_polymerase"/>
          <p:cNvPicPr/>
          <p:nvPr/>
        </p:nvPicPr>
        <p:blipFill>
          <a:blip r:embed="rId1"/>
          <a:stretch/>
        </p:blipFill>
        <p:spPr>
          <a:xfrm>
            <a:off x="5989680" y="1981080"/>
            <a:ext cx="2041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PCR"/>
          <p:cNvPicPr/>
          <p:nvPr/>
        </p:nvPicPr>
        <p:blipFill>
          <a:blip r:embed="rId1"/>
          <a:stretch/>
        </p:blipFill>
        <p:spPr>
          <a:xfrm>
            <a:off x="2630520" y="609480"/>
            <a:ext cx="38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R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step-by-step animation of PCR process fir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lc.org/resources/animations/pcr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is excellent interactiv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la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ne of my favourite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earn.genetics.utah.edu/content/labs/pcr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27" descr="biol_02_img0140-286rp3x"/>
          <p:cNvPicPr/>
          <p:nvPr/>
        </p:nvPicPr>
        <p:blipFill>
          <a:blip r:embed="rId1"/>
          <a:stretch/>
        </p:blipFill>
        <p:spPr>
          <a:xfrm>
            <a:off x="2849400" y="1981080"/>
            <a:ext cx="34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thod of separating molecules based o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migrates through the gel towards a positive electr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fragments move faster through the gel, causing separation by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fragments can be seen by using a stain such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id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22:26:53Z</dcterms:created>
  <dc:creator>rubina khan</dc:creator>
  <dc:description/>
  <dc:language>en-US</dc:language>
  <cp:lastModifiedBy>rubina khan</cp:lastModifiedBy>
  <dcterms:modified xsi:type="dcterms:W3CDTF">2017-04-11T11:21:23Z</dcterms:modified>
  <cp:revision>243</cp:revision>
  <dc:subject/>
  <dc:title>Biotechnological Tools and Techniques</dc:title>
</cp:coreProperties>
</file>